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9.pct" ContentType="image/x-pict"/>
  <Override PartName="/ppt/media/image7.pct" ContentType="image/x-pict"/>
  <Override PartName="/ppt/media/image10.pct" ContentType="image/x-pict"/>
  <Override PartName="/ppt/media/image19.png" ContentType="image/png"/>
  <Override PartName="/ppt/media/image16.pct" ContentType="image/x-pict"/>
  <Override PartName="/ppt/media/image18.png" ContentType="image/png"/>
  <Override PartName="/ppt/media/image15.pct" ContentType="image/x-pict"/>
  <Override PartName="/ppt/media/image17.png" ContentType="image/png"/>
  <Override PartName="/ppt/media/image1.pct" ContentType="image/x-pict"/>
  <Override PartName="/ppt/media/image3.pct" ContentType="image/x-pict"/>
  <Override PartName="/ppt/media/image12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9ACF-261D-4E42-9E0B-20831375B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es for rRNA have the greatest commonality among all living things. There is very little difference in the DNA sequence of the rRNA genes in a humans vs. a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hat this function (building of a ribosome) is so integral to life that every cell does it almost exactly the sam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a base and this changes the structure of the RNA which causes it to no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poisons can target the proteins of prokaryotic (bacterial) ribosomes =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E4C3-C456-4A60-93CB-B6F19C3B70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2CCC-C074-4A2F-89AA-1B618831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B72A-33EB-47BF-A6CE-BDDBAD22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FB4E-F42F-4736-89E2-CF724101B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D1E6-72E3-40DD-A7A8-5965618C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4946-ED05-463C-AD48-6AACCC7A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0468-E1F2-4821-B0C9-FA9797CD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AD43-4CAE-4F0A-9347-2D78E7F6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6882-1533-4F7E-BB06-139C16F1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B69B-E878-40B0-BDA2-E0E30883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8811-F811-49F1-A7BF-BA24FAA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4D04-014F-4FBD-ACCC-E1A66946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F1BD-C305-478E-9DE2-A5AD214A6FD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3890880"/>
            <a:ext cx="3581640" cy="2967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010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7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ell: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, Rib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13500" t="0" r="27000" b="13187"/>
          <a:stretch/>
        </p:blipFill>
        <p:spPr>
          <a:xfrm>
            <a:off x="6477120" y="457200"/>
            <a:ext cx="2666880" cy="26557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105520" y="4518000"/>
            <a:ext cx="3962160" cy="2263680"/>
            <a:chOff x="5105520" y="4518000"/>
            <a:chExt cx="3962160" cy="2263680"/>
          </a:xfrm>
        </p:grpSpPr>
        <p:grpSp>
          <p:nvGrpSpPr>
            <p:cNvPr id="108" name=""/>
            <p:cNvGrpSpPr/>
            <p:nvPr/>
          </p:nvGrpSpPr>
          <p:grpSpPr>
            <a:xfrm>
              <a:off x="5105520" y="4518000"/>
              <a:ext cx="3962160" cy="2263680"/>
              <a:chOff x="5105520" y="4518000"/>
              <a:chExt cx="3962160" cy="2263680"/>
            </a:xfrm>
          </p:grpSpPr>
          <p:pic>
            <p:nvPicPr>
              <p:cNvPr id="109" name="" descr=""/>
              <p:cNvPicPr/>
              <p:nvPr/>
            </p:nvPicPr>
            <p:blipFill>
              <a:blip r:embed="rId3"/>
              <a:srcRect l="0" t="1693344" r="0" b="0"/>
              <a:stretch/>
            </p:blipFill>
            <p:spPr>
              <a:xfrm>
                <a:off x="5105520" y="4518000"/>
                <a:ext cx="3962160" cy="22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6172200" y="4518000"/>
                <a:ext cx="2286000" cy="1142640"/>
              </a:xfrm>
              <a:custGeom>
                <a:avLst/>
                <a:gdLst/>
                <a:ahLst/>
                <a:rect l="l" t="t" r="r" b="b"/>
                <a:pathLst>
                  <a:path w="1440" h="720">
                    <a:moveTo>
                      <a:pt x="96" y="0"/>
                    </a:moveTo>
                    <a:lnTo>
                      <a:pt x="1440" y="0"/>
                    </a:lnTo>
                    <a:lnTo>
                      <a:pt x="768" y="576"/>
                    </a:lnTo>
                    <a:lnTo>
                      <a:pt x="576" y="480"/>
                    </a:lnTo>
                    <a:lnTo>
                      <a:pt x="672" y="192"/>
                    </a:lnTo>
                    <a:lnTo>
                      <a:pt x="384" y="240"/>
                    </a:lnTo>
                    <a:lnTo>
                      <a:pt x="192" y="528"/>
                    </a:lnTo>
                    <a:lnTo>
                      <a:pt x="96" y="720"/>
                    </a:lnTo>
                    <a:lnTo>
                      <a:pt x="0" y="62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cd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848720" y="5791320"/>
              <a:ext cx="761760" cy="228600"/>
            </a:xfrm>
            <a:prstGeom prst="rect">
              <a:avLst/>
            </a:prstGeom>
            <a:solidFill>
              <a:srgbClr val="fcd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boso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unc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tein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tructu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ibosomes contain rRNA &amp; protei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mposed of 2 subunits that combine to carry out protein synthe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8727" r="0" b="8074"/>
          <a:stretch/>
        </p:blipFill>
        <p:spPr>
          <a:xfrm>
            <a:off x="304920" y="3828960"/>
            <a:ext cx="8610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1270037" b="597653"/>
          <a:stretch/>
        </p:blipFill>
        <p:spPr>
          <a:xfrm>
            <a:off x="5410080" y="909720"/>
            <a:ext cx="3540240" cy="2442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1714607" t="0" r="0" b="331510"/>
          <a:stretch/>
        </p:blipFill>
        <p:spPr>
          <a:xfrm>
            <a:off x="5972040" y="4038480"/>
            <a:ext cx="3095640" cy="261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ypes of Rib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Free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ib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spended in cytos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ynthesize proteins that function within cytos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Bound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rib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ttached to outside of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ndoplasmic reticulu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ynthesize proteins for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port or for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b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karyotes &amp; eukaryotes have different rib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size subun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protei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an this difference be useful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4191120" cy="2436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76920" y="3836880"/>
            <a:ext cx="406404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87320" y="1371600"/>
            <a:ext cx="7823160" cy="53341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karyote vs. eukaryote rib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16720" y="1752480"/>
            <a:ext cx="3527280" cy="4876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uncti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contains eukaryotic cell’s genetic library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genes in nucleu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ome genes located in mitochondria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loroplas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z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 5 microns (µm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diame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665520"/>
            <a:ext cx="3352680" cy="3192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parated from cytoplasm by a double membrane,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nuclear envelo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membrane is fused in spots forming pore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ows large macromolecule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particles to pass throug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760" y="5226120"/>
            <a:ext cx="3877920" cy="885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What kind of molecules</a:t>
            </a:r>
            <a:br>
              <a:rPr sz="2600"/>
            </a:b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need to pass through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752480" y="380880"/>
            <a:ext cx="5521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823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49840" y="3022560"/>
            <a:ext cx="4317840" cy="3759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in nucleus, DNA organized into fibrous material,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hromat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normal cell appears as diffuse mas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n cell prepar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divide, chromat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bers coil up a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parate structures,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hrom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cleus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nsely stained region =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nucleolu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tion of ribosomal subunits from rRNA &amp; protei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as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clear pores to cytoplasm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mbine to form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rib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3124080" cy="3390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52880" y="3981600"/>
            <a:ext cx="3899160" cy="2760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2286142" t="1751835" r="0" b="0"/>
          <a:stretch/>
        </p:blipFill>
        <p:spPr>
          <a:xfrm>
            <a:off x="-3240" y="5181480"/>
            <a:ext cx="19414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92080"/>
            <a:ext cx="885852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674640"/>
            <a:ext cx="891540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3:33:13Z</dcterms:created>
  <dc:creator>Kim Foglia</dc:creator>
  <dc:description>All Rights Reserved. Copyright 2003. WD Interactive.</dc:description>
  <cp:keywords>Education Biology Zone Kim Foglia</cp:keywords>
  <dc:language>en-US</dc:language>
  <cp:lastModifiedBy>Kim Foglia</cp:lastModifiedBy>
  <cp:lastPrinted>2005-10-06T01:51:55Z</cp:lastPrinted>
  <dcterms:modified xsi:type="dcterms:W3CDTF">2005-10-06T01:52:08Z</dcterms:modified>
  <cp:revision>13</cp:revision>
  <dc:subject>AP &amp; Regents Biology</dc:subject>
  <dc:title>Chapter  7.  The Cell:   Nucleus, Ribosomes</dc:title>
</cp:coreProperties>
</file>